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B64-AD54-4DE2-835A-B7DE0D92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6B8-45F6-4B50-A392-5FF9A8B7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F59-829B-4627-93C2-8BB93D1E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770-DEC3-4625-AD1A-7C68295F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809-22BD-471F-AF4C-849601C8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5D3-4058-48A4-9E16-9A03307B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0ED-A988-4592-8551-526ACF65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6D6-8550-4E79-9A34-BDE32558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0DC-7F81-4F7D-9B78-7BB64967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D87-0649-44FC-B6BD-3FC09F9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933-24D4-4F84-BA3F-F6A45289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04C-33B9-4971-8871-2C08349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093D-F1F1-4A8C-AAAC-0E6348BA9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e llamo _________         Clase 802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La fecha es el 15 de septiembre de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# 4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¿Como eres tú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- Conjuga el verbo S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I- Completa con la forma correcta del verbo S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éctor ______ muy intelig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o no _______ pelirroj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Mis amigos y yo ________ estudi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_______ tú un(a) buen(a) alumn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Vosotros _________ estadounidens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upe y José ________ amig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93640" y="2255760"/>
          <a:ext cx="7620120" cy="1706760"/>
        </p:xfrm>
        <a:graphic>
          <a:graphicData uri="http://schemas.openxmlformats.org/drawingml/2006/table">
            <a:tbl>
              <a:tblPr/>
              <a:tblGrid>
                <a:gridCol w="1600200"/>
                <a:gridCol w="1790640"/>
                <a:gridCol w="2248200"/>
                <a:gridCol w="1981080"/>
              </a:tblGrid>
              <a:tr h="4269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 (to b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41"/>
          <p:cNvSpPr/>
          <p:nvPr/>
        </p:nvSpPr>
        <p:spPr>
          <a:xfrm>
            <a:off x="440388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 Escribe en Plu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hico es estadounid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chacha es bo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legio es mod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urso es fa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601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II. Copia y completa con la forma correcta de SER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ara, ¿De dónde ______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¿_______ de Florida o de Cuba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Yo ______ de Cub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h, ___________ cubanoamerican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i. Y tú, ¿De dónde ___________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¿Yo? Yo _______ de Dall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Yo ______ mexicanoamerican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Completa con la forma correcta del verbo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___ abogad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law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 español y mi madre ___ norteamer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hermano y yo __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padres también 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 al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 flaco, pero mi hermano ____ go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dos hermanas ____ enfermera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nurses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; ellas ______ muy 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________ tú? ¿________ alto o bajo, flaco o go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i amigo. Tú ______ peruano, yo ______ norteameri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- 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sociable o tímid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alto/a o baj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franceses o norteameric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ricos o pob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sted una persona alegre o tri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: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un 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6320" y="2544840"/>
            <a:ext cx="1447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c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371600" y="236232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leg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3962520" y="1143000"/>
            <a:ext cx="117144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2971800" y="266688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rofesor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71800" y="304812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aestro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5567400" y="1098720"/>
            <a:ext cx="1824120" cy="1415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5638680" y="2438280"/>
            <a:ext cx="17528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lum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486400" y="2895480"/>
            <a:ext cx="21337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tudi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5"/>
          <a:stretch/>
        </p:blipFill>
        <p:spPr>
          <a:xfrm>
            <a:off x="228600" y="3581280"/>
            <a:ext cx="2109960" cy="1071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7543800" y="262080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6"/>
          <a:stretch/>
        </p:blipFill>
        <p:spPr>
          <a:xfrm>
            <a:off x="2743200" y="3657600"/>
            <a:ext cx="130176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7"/>
          <a:stretch/>
        </p:blipFill>
        <p:spPr>
          <a:xfrm>
            <a:off x="7772400" y="914400"/>
            <a:ext cx="109368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"/>
          <p:cNvPicPr/>
          <p:nvPr/>
        </p:nvPicPr>
        <p:blipFill>
          <a:blip r:embed="rId8"/>
          <a:stretch/>
        </p:blipFill>
        <p:spPr>
          <a:xfrm>
            <a:off x="5867280" y="35053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"/>
          <p:cNvPicPr/>
          <p:nvPr/>
        </p:nvPicPr>
        <p:blipFill>
          <a:blip r:embed="rId9"/>
          <a:stretch/>
        </p:blipFill>
        <p:spPr>
          <a:xfrm>
            <a:off x="4267080" y="3733920"/>
            <a:ext cx="1685880" cy="154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"/>
          <p:cNvPicPr/>
          <p:nvPr/>
        </p:nvPicPr>
        <p:blipFill>
          <a:blip r:embed="rId10"/>
          <a:stretch/>
        </p:blipFill>
        <p:spPr>
          <a:xfrm>
            <a:off x="7696080" y="3657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3"/>
          <p:cNvSpPr/>
          <p:nvPr/>
        </p:nvSpPr>
        <p:spPr>
          <a:xfrm>
            <a:off x="533520" y="4648320"/>
            <a:ext cx="1447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us esco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2590920" y="5410080"/>
            <a:ext cx="16761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648320" y="49528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6400800" y="48006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7848720" y="5334120"/>
            <a:ext cx="1143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1143000" y="6019920"/>
            <a:ext cx="7010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Verdana"/>
              </a:rPr>
              <a:t>Materiales Escola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cp:lastPrinted>2014-09-15T15:36:18Z</cp:lastPrinted>
  <dcterms:modified xsi:type="dcterms:W3CDTF">2014-09-15T17:43:27Z</dcterms:modified>
  <cp:revision>12</cp:revision>
  <dc:subject/>
  <dc:title>Me llamo _________         Clase 6NH/IL La fecha es el 16 de diciembre del 2010</dc:title>
</cp:coreProperties>
</file>